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C92-346F-46F6-8924-F1D09553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A68-4FC7-482D-BF83-BE75BC9B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CA2-3C77-4F0A-A1FE-3276F9BE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1FA-3A78-462B-862E-1077CC79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AC8-4C2B-4ECC-8B90-2A821F9B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7DE-77BA-483F-AAF8-6330EEAB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282-F188-4F8D-8E0D-6A7F1A94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3E0-1C51-4CEA-A913-3B1B7600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445-B3D0-4A78-A95F-C8538403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453-D017-4615-A3D3-A2DB668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4B8-09D6-4FBC-9DCD-C17749C7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022-CCCA-4296-B8B3-F36A510C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742C-B959-4180-ACE1-BCD41E097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/imgres?imgurl=http://iheartya.files.wordpress.com/2009/02/experience-alaska.jpg&amp;imgrefurl=http://iheartya.wordpress.com/2009/02/&amp;usg=__3Ka1z5dQu4w8lBlCv8Ykus48WNk=&amp;h=494&amp;w=741&amp;sz=63&amp;hl=en&amp;start=3&amp;tbnid=Nwg0qesQHUL08M:&amp;tbnh=94&amp;tbnw=141&amp;prev=/images%3Fq%3Dalaska%26gbv%3D2%26hl%3Den%26safe%3Dactive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000000">
            <a:off x="2057400" y="685800"/>
            <a:ext cx="5486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latin typeface="Script MT Bold"/>
              </a:rPr>
              <a:t>The Western 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latin typeface="Script MT Bold"/>
              <a:ea typeface="Script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2800080" cy="487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7080" y="335268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Emily Gant, Nandini Chakrabarty and Megan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5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19520" y="228600"/>
            <a:ext cx="3504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Eras Light ITC"/>
              </a:rPr>
              <a:t>Alask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Eras Light ITC"/>
              <a:ea typeface="Eras Light ITC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1371600"/>
            <a:ext cx="2895840" cy="19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16765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5892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267080"/>
            <a:ext cx="2743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-June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pulation-683,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mate-tundra and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b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44956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volcanoes are fou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ere. Earthquakes occu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. Oil and gas help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laska’s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0" y="0"/>
            <a:ext cx="4267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alifornian FB"/>
              </a:rPr>
              <a:t>Californ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72200" y="304920"/>
            <a:ext cx="207180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5373720"/>
            <a:ext cx="1600200" cy="148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5715000"/>
            <a:ext cx="3809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-Sac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-36,553,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-Mediterranean and 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57150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gold, and grapes are a main part of California’s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66680" y="22860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Eras Light ITC"/>
              </a:rPr>
              <a:t>Colorado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Eras Light ITC"/>
              <a:ea typeface="Eras Light ITC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3276720" cy="259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869080" y="4191120"/>
            <a:ext cx="3274920" cy="266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57200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Den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-4,861,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57150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conomy depends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hydroelectric power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gri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724280" y="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25751" dir="18900000" blurRad="0" rotWithShape="0">
                    <a:srgbClr val="ff3300"/>
                  </a:outerShdw>
                </a:effectLst>
                <a:latin typeface="StoneSerif SBIN SmBd v.1"/>
              </a:rPr>
              <a:t>Hawaii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25751" dir="18900000" blurRad="0" rotWithShape="0">
                  <a:srgbClr val="ff3300"/>
                </a:outerShdw>
              </a:effectLst>
              <a:latin typeface="StoneSerif SBIN SmBd v.1"/>
              <a:ea typeface="StoneSerif SBIN SmBd v.1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2990880" cy="2046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7600" y="3886200"/>
            <a:ext cx="5486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-Honol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-1,283,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mate-Tropical Rain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ir economy mainly relies on tourism and fr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3:03:37Z</dcterms:created>
  <dc:creator>nandinichakrabarty</dc:creator>
  <dc:description/>
  <dc:language>en-US</dc:language>
  <cp:lastModifiedBy>nandinichakrabarty</cp:lastModifiedBy>
  <dcterms:modified xsi:type="dcterms:W3CDTF">2009-04-14T13:36:39Z</dcterms:modified>
  <cp:revision>4</cp:revision>
  <dc:subject/>
  <dc:title>Slide 1</dc:title>
</cp:coreProperties>
</file>